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.gif" ContentType="image/gif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7.png" ContentType="image/png"/>
  <Override PartName="/ppt/media/image20.jpeg" ContentType="image/jpeg"/>
  <Override PartName="/ppt/media/image17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5.gif" ContentType="image/gif"/>
  <Override PartName="/ppt/media/image3.jpeg" ContentType="image/jpeg"/>
  <Override PartName="/ppt/media/image14.jpeg" ContentType="image/jpeg"/>
  <Override PartName="/ppt/media/image16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7D5-ED76-45F8-BCCC-F2A483B6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704-BFB3-407C-B5CB-09D1A2F9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406-F6D3-4ECA-8A70-37F70E49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C8A-53DD-4ACF-BB95-36764897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17E-B3C9-4CBC-93AB-021E21C9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C2E-544B-4B6F-9772-CB90207C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600-A572-4E56-8DC1-61E090E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D6B-96DF-49A9-B7F1-0D8DEE7C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AD3-149E-4B43-B583-8C37CF0A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732-BC06-49C5-A75B-6557B00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2C5-ED74-49BF-9E8F-0CEB612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0C5-77C3-4DBC-B54F-0122267C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6C17-BA2F-4F3E-8BF8-208C4F324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fe Cycle of a Pumpk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ocabulary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55627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Mj02839210000[1]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971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eries of actions that happen in the same ord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0826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ith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dry 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1768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ndri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lender, curling of a pl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A curling tendr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590920"/>
            <a:ext cx="2457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distur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c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change to fit new situations or surround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happens one time a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2819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like proteins, vitamins, and minerals that people, animals, or plants need in order to grow and be health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1751040" cy="149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put something in a hole under the grou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157640" y="3014640"/>
            <a:ext cx="3005280" cy="300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18259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ndisturb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 bothered or not moved from its normal place or situ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3505320"/>
            <a:ext cx="407988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old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mp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ndri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i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is extremely lar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495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pro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very young pl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of a plant that contains see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p layer of Earth’s surf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of a plant that takes in water and holds the plant in pl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29000" y="3352680"/>
            <a:ext cx="2320920" cy="2360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990720" y="4952520"/>
            <a:ext cx="3429000" cy="22860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gather cro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727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lant with a long, thin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0575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mp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vered with high spots or lum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lat or 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3102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27:20Z</dcterms:created>
  <dc:creator>Gateway</dc:creator>
  <dc:description/>
  <dc:language>en-US</dc:language>
  <cp:lastModifiedBy> </cp:lastModifiedBy>
  <dcterms:modified xsi:type="dcterms:W3CDTF">2008-01-13T18:49:47Z</dcterms:modified>
  <cp:revision>5</cp:revision>
  <dc:subject/>
  <dc:title>Pumpkins, Pumpkins, Pumpkins</dc:title>
</cp:coreProperties>
</file>